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5BF-9942-4DE4-8010-8DB276E9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F6B-A235-4978-87B5-010BDD76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F5D-09EF-4F88-8BB1-A6DFD6EF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C82-42FE-4315-B25F-40AA97F2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FF3D-ECB9-4FAF-8CB2-9BEA9D56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6C59-25FD-4CCE-9A17-1F8AF884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1FA1-F3A0-4E1E-A4A5-23B2127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12B9-F532-4A1D-9019-829EA7B7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B527-EEEC-4B84-A0F4-BB7E927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00D1-F43E-4210-97D9-0BB72878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33D6-77C0-45D4-AAD3-FA05A9E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E39-7ACC-480A-A8EC-B1184887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5DEA-FD84-4925-A5C3-F66086B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A41-8ED1-404A-886F-FD4E0D4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91FC-204C-4C32-8204-E4CFDB5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ABDC-37A7-46FC-945F-A87161A8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D3F4-ED91-4065-858B-E1E1FE3E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8BFF-2349-4779-808C-349CB3AA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4A48-44DA-4D96-BD2E-E6E13E9D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F33A-C4EC-4120-88E0-C283A79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2CD2-A9E6-4204-8724-ADA38F2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EBEB-773F-477D-A1DF-EC1C0E62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1E0-621F-4FB7-87F2-53BD7917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75F1-AD82-4750-A80B-A1B3088D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CA55-C6FA-4C25-BDDB-491CE3AC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F238-9475-444C-908C-9023EFE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F485-ED40-4BF2-A3BC-E81DBE8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FEA2-BCF4-43CB-9341-B580C321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8A02-6153-43CC-8B76-98F28B18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288D-BCC0-42D1-89C8-FC68708F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DDA3-E085-4FBA-B89A-3D731C72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AC0D-5C75-477D-90D5-3EC0897C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F89F-DBE6-4B96-A05C-25E7F66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802-0697-46B2-A20E-68DEE0D2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A2D2-8186-4D04-887D-4F4DFDE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1E5E-F76A-47A7-A37F-6006AFC1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F9A0-BDD2-4600-8FC7-D07D1237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0C30-8ECC-4A5A-9B68-37E0C65C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6BB9-386E-45E5-8E44-F257BB8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A2A2-7E7E-400E-8D6B-39D93C8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F101-22BB-4BF3-958B-738F123A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6F64-41B5-4BB6-BA50-458B7578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6067B-4B40-48E3-8701-3E903BC4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A75-16BA-4049-A123-DE6A88EA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302-DB6B-48D6-9CBD-5619FB3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057-7900-4A6D-998B-0C4BB03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BA6-E233-4940-974B-09E3C47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FFE-5609-4E60-8542-525D0AC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17B-5429-4F17-BDCB-5F8E3E94F0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84C9-00CE-45FA-9E25-AE1E1E1FBA7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4337-4BAE-45AF-9131-16346757B39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90F4-1819-4A63-ACC1-9D02A2E00A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1 Título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Subtítulo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6 CuadroTexto"/>
          <p:cNvSpPr/>
          <p:nvPr/>
        </p:nvSpPr>
        <p:spPr>
          <a:xfrm>
            <a:off x="2411280" y="587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onstantia"/>
              </a:rPr>
              <a:t>Viña del Mar, 12  de mayo d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C:\Documents and Settings\Usuario\Mis documentos\Mis imágenes\2011\INFRAESTRUCTURA\DSC01937.JPG"/>
          <p:cNvPicPr/>
          <p:nvPr/>
        </p:nvPicPr>
        <p:blipFill>
          <a:blip r:embed="rId2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Documents and Settings\Usuario\Mis documentos\DOCUMENTOS IGNACIO\FOTOS ESCUELA\insignia1.bmp"/>
          <p:cNvPicPr/>
          <p:nvPr/>
        </p:nvPicPr>
        <p:blipFill>
          <a:blip r:embed="rId3"/>
          <a:stretch/>
        </p:blipFill>
        <p:spPr>
          <a:xfrm>
            <a:off x="7164360" y="5157720"/>
            <a:ext cx="14335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2" descr=""/>
          <p:cNvPicPr/>
          <p:nvPr/>
        </p:nvPicPr>
        <p:blipFill>
          <a:blip r:embed="rId1"/>
          <a:stretch/>
        </p:blipFill>
        <p:spPr>
          <a:xfrm>
            <a:off x="603360" y="212760"/>
            <a:ext cx="778500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611280" y="2276640"/>
          <a:ext cx="8082000" cy="4356000"/>
        </p:xfrm>
        <a:graphic>
          <a:graphicData uri="http://schemas.openxmlformats.org/drawingml/2006/table">
            <a:tbl>
              <a:tblPr/>
              <a:tblGrid>
                <a:gridCol w="1912680"/>
                <a:gridCol w="2057400"/>
                <a:gridCol w="2055960"/>
                <a:gridCol w="205596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546120" y="642960"/>
            <a:ext cx="836136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1 Título" descr=""/>
          <p:cNvPicPr/>
          <p:nvPr/>
        </p:nvPicPr>
        <p:blipFill>
          <a:blip r:embed="rId1"/>
          <a:stretch/>
        </p:blipFill>
        <p:spPr>
          <a:xfrm>
            <a:off x="536400" y="-30240"/>
            <a:ext cx="7785360" cy="1590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136000" cy="4681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nstantia"/>
              </a:rPr>
              <a:t>Involucrar y hacer partícipe a los apoderados  en las diferentes actividades de la Escuela lo que ha  contribuido a una relación de mayor compromiso y respeto hacia la labor que realiza la Escuela.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Constantia"/>
              </a:rPr>
              <a:t>Trabajo sistemático , articulado y  continuo en los diferentes niveles mediante rutinas de los diferentes procesos claramente establecidas  planificadas y calendarizada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nstantia"/>
              </a:rPr>
              <a:t>Trabajo en equipo , apoyo y orientación en los proceso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Constantia"/>
              </a:rPr>
              <a:t>Apoyo de diferentes profesionale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Constantia"/>
              </a:rPr>
              <a:t>Hacer partícipes a todo el personal no docente en el proceso educativo , de acuerdo a su rol.(inspectores , auxiliares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es-CL" sz="4500" spc="-1" strike="noStrike">
                <a:solidFill>
                  <a:srgbClr val="ff0000"/>
                </a:solidFill>
                <a:latin typeface="Calibri"/>
              </a:rPr>
              <a:t>GESTIÓN CURRICULAR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1483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eriedad y profesionalismo en los proce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utinas de trabajo claramente establecidas  : lectura diaria , marcado énfasis en la comprensión lectora , a través  de todos los subsect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 proyectos comunes a nivel de Escuela  que involucran todos los subsectores de aprendiza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Uso sistemático de CRA y sala de Enlaces  horario establecido y cumplimiento de é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b050"/>
                </a:solidFill>
                <a:latin typeface="Calibri"/>
              </a:rPr>
              <a:t>CONVIVENCI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lima organizacional armónico , buenas relaciones interpersonales , lo que contribuye a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talecer el compromiso  de toda la  comunidad educati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Lograr una mayor  identidad   , de los distintos actores ,al sentirse involucrados en el quehacer de nuestra Escue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500" spc="-1" strike="noStrike">
                <a:solidFill>
                  <a:srgbClr val="a5c249"/>
                </a:solidFill>
                <a:latin typeface="Calibri"/>
              </a:rPr>
              <a:t>RECURSOS 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148428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ptimizar al máximo los recursos económicos que recibe la Escuela  (subvención de mantenimiento,  5% SEP , aportes del centro de padre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ar  con buen stock de material , siempre disponible para el desarrollo del trabajo de los alumn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alibri"/>
              </a:rPr>
              <a:t>DEMOSTRAR CONFIANZA  Y TENER EL CONVENCIMIENTO DE QUE NUESTROS ALUMNOS SON CAPACES  Y QUE LO PUEDEN LOGRAR.  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GNACIO MORALES RODRIGUE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IRECT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9" descr="C:\Documents and Settings\Usuario\Mis documentos\DOCUMENTOS IGNACIO\FOTOS ESCUELA\insignia1.bmp"/>
          <p:cNvPicPr/>
          <p:nvPr/>
        </p:nvPicPr>
        <p:blipFill>
          <a:blip r:embed="rId1"/>
          <a:stretch/>
        </p:blipFill>
        <p:spPr>
          <a:xfrm>
            <a:off x="1042920" y="836640"/>
            <a:ext cx="1219320" cy="12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3:33:32Z</dcterms:created>
  <dc:creator>Coorporacion Educaciónal Viña del Mar</dc:creator>
  <dc:description/>
  <dc:language>en-US</dc:language>
  <cp:lastModifiedBy>Coorporacion Educaciónal Viña del Mar</cp:lastModifiedBy>
  <dcterms:modified xsi:type="dcterms:W3CDTF">2011-05-12T00:11:03Z</dcterms:modified>
  <cp:revision>5</cp:revision>
  <dc:subject/>
  <dc:title>Diapositiva 1</dc:title>
</cp:coreProperties>
</file>